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DED2-DF32-4D4F-BD75-6BC37B6C2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CB03-0645-401E-B588-0CF82FB5A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A5DB-9C03-4A13-AB7C-2D11EA8BD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60D9-E038-4886-9E1A-4E208C325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B070-A0E6-4150-8CCE-D104B2827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5E71-5D7E-4349-B8CE-F518E116B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DF93-A594-45B3-A16D-D0F406814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F6E1-DDA2-42C2-9EAF-5F4574960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CE37-B9BA-4768-8F7C-E2E251ABB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D069-24B3-489A-BFF6-BE6F8B76B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6006-5CC6-42B4-803F-82C63BFDE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4037-5D2A-4EB2-85C0-1AE2B3B19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D501B-8DA2-4EC1-8124-743D127F2E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US History 7.1 quiz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October 27, 20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Explain why the US felt they needed to expand markets overse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Explain the purpose of building up the US Nav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Explain how anglo-saxonism plays into imperialis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chool District U46</cp:lastModifiedBy>
  <dcterms:modified xsi:type="dcterms:W3CDTF">2010-10-27T15:00:37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